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lackadder IT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lackadder IT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FE4B-A23C-4A2B-851D-C121AF0AD056}"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1B58-27A4-4B3B-A0AC-A13DEEA4614A}"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22271-87DC-4EC4-85C0-C37E72ABD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68BA7-0FB8-4235-AD07-357450A0C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7A987-752D-406D-8F57-158189793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BE43A-5579-408A-A94F-1680EB3AF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E057A-E616-421B-858D-356775E08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DF6D1-94CE-4774-8FB9-9560AFF4B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EB31-6019-4AC5-A165-51BBC298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941F5-DBDB-4F03-A123-4C16067D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4358-C106-4A98-93DC-5C03CBECB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46B6-3093-439F-B05B-13031BD47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0EF8-216C-4EDF-B11D-60BDF406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115B-3967-41F8-9DD6-6890B0C69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41AA-04A7-4833-8DA8-D123AC9EC18E}" type="slidenum">
              <a:rPr b="0" lang="en-US" sz="1400" spc="-1" strike="noStrike">
                <a:solidFill>
                  <a:srgbClr val="000000"/>
                </a:solidFill>
                <a:latin typeface="Times New Roman"/>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971800" y="533520"/>
            <a:ext cx="2879640" cy="4798800"/>
          </a:xfrm>
          <a:prstGeom prst="rect">
            <a:avLst/>
          </a:prstGeom>
          <a:ln w="0">
            <a:noFill/>
          </a:ln>
        </p:spPr>
      </p:pic>
      <p:sp>
        <p:nvSpPr>
          <p:cNvPr id="49" name="Text Box 3"/>
          <p:cNvSpPr/>
          <p:nvPr/>
        </p:nvSpPr>
        <p:spPr>
          <a:xfrm>
            <a:off x="685800" y="56386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0" name="Text Box 4"/>
          <p:cNvSpPr/>
          <p:nvPr/>
        </p:nvSpPr>
        <p:spPr>
          <a:xfrm>
            <a:off x="762120" y="57150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lackadder ITC"/>
              </a:rPr>
              <a:t>                </a:t>
            </a:r>
            <a:r>
              <a:rPr b="0" lang="en-US" sz="3600" spc="-1" strike="noStrike">
                <a:solidFill>
                  <a:srgbClr val="000000"/>
                </a:solidFill>
                <a:latin typeface="Blackadder ITC"/>
              </a:rPr>
              <a:t>Behavioral Problems in Children</a:t>
            </a:r>
            <a:endParaRPr b="0" lang="en-US" sz="36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0" name="Text Box 2"/>
          <p:cNvSpPr/>
          <p:nvPr/>
        </p:nvSpPr>
        <p:spPr>
          <a:xfrm>
            <a:off x="1371600" y="304920"/>
            <a:ext cx="5867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suring and complimenting Mom on her parenting skills may go a long way toward helping her adjust to her new situation.</a:t>
            </a:r>
            <a:endParaRPr b="0" lang="en-US" sz="2400" spc="-1" strike="noStrike">
              <a:solidFill>
                <a:srgbClr val="000000"/>
              </a:solidFill>
              <a:latin typeface="Blackadder ITC"/>
            </a:endParaRPr>
          </a:p>
        </p:txBody>
      </p:sp>
      <p:sp>
        <p:nvSpPr>
          <p:cNvPr id="91"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92" name="Picture 4" descr="Go to fullsize image"/>
          <p:cNvPicPr/>
          <p:nvPr/>
        </p:nvPicPr>
        <p:blipFill>
          <a:blip r:embed="rId1"/>
          <a:stretch/>
        </p:blipFill>
        <p:spPr>
          <a:xfrm>
            <a:off x="3429000" y="3733920"/>
            <a:ext cx="1644480" cy="24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1800360" y="2835360"/>
            <a:ext cx="5543280" cy="457200"/>
            <a:chOff x="1800360" y="2835360"/>
            <a:chExt cx="5543280" cy="457200"/>
          </a:xfrm>
        </p:grpSpPr>
        <p:sp>
          <p:nvSpPr>
            <p:cNvPr id="9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95" name="Group 4"/>
            <p:cNvGrpSpPr/>
            <p:nvPr/>
          </p:nvGrpSpPr>
          <p:grpSpPr>
            <a:xfrm>
              <a:off x="1800360" y="2835360"/>
              <a:ext cx="5543280" cy="457200"/>
              <a:chOff x="1800360" y="2835360"/>
              <a:chExt cx="5543280" cy="457200"/>
            </a:xfrm>
          </p:grpSpPr>
          <p:sp>
            <p:nvSpPr>
              <p:cNvPr id="9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9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98" name="Text Box 7"/>
          <p:cNvSpPr/>
          <p:nvPr/>
        </p:nvSpPr>
        <p:spPr>
          <a:xfrm>
            <a:off x="609480" y="304920"/>
            <a:ext cx="7925040" cy="3766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year-old brother bites his 18 month old brother, usually when the boys are in bed at night (they share a room, with both in toddler beds). The biting happens only occasionally in the parents’presence.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t does, she alternates between using time-outs and talking to the 3-year-old. You encourage them  to be more consistent with time-outs when aggression is witnessed</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dvise the parents about what happens after "lights out”?</a:t>
            </a:r>
            <a:endParaRPr b="0" lang="en-US" sz="2400" spc="-1" strike="noStrike">
              <a:solidFill>
                <a:srgbClr val="000000"/>
              </a:solidFill>
              <a:latin typeface="Blackadder ITC"/>
            </a:endParaRPr>
          </a:p>
        </p:txBody>
      </p:sp>
      <p:pic>
        <p:nvPicPr>
          <p:cNvPr id="99" name="Picture 9" descr="C:\Documents and Settings\Owner\My Documents\My Pictures\2006-04 (Apr)\scan.jpg"/>
          <p:cNvPicPr/>
          <p:nvPr/>
        </p:nvPicPr>
        <p:blipFill>
          <a:blip r:embed="rId1"/>
          <a:stretch/>
        </p:blipFill>
        <p:spPr>
          <a:xfrm>
            <a:off x="3429000" y="4191120"/>
            <a:ext cx="1919160" cy="24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800360" y="2835360"/>
            <a:ext cx="5543280" cy="457200"/>
            <a:chOff x="1800360" y="2835360"/>
            <a:chExt cx="5543280" cy="457200"/>
          </a:xfrm>
        </p:grpSpPr>
        <p:sp>
          <p:nvSpPr>
            <p:cNvPr id="10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2" name="Group 4"/>
            <p:cNvGrpSpPr/>
            <p:nvPr/>
          </p:nvGrpSpPr>
          <p:grpSpPr>
            <a:xfrm>
              <a:off x="1800360" y="2835360"/>
              <a:ext cx="5543280" cy="457200"/>
              <a:chOff x="1800360" y="2835360"/>
              <a:chExt cx="5543280" cy="457200"/>
            </a:xfrm>
          </p:grpSpPr>
          <p:sp>
            <p:nvSpPr>
              <p:cNvPr id="10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0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05" name="Text Box 7"/>
          <p:cNvSpPr/>
          <p:nvPr/>
        </p:nvSpPr>
        <p:spPr>
          <a:xfrm>
            <a:off x="533520" y="609480"/>
            <a:ext cx="7772400" cy="397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1800360" y="2835360"/>
            <a:ext cx="5543280" cy="457200"/>
            <a:chOff x="1800360" y="2835360"/>
            <a:chExt cx="5543280" cy="457200"/>
          </a:xfrm>
        </p:grpSpPr>
        <p:sp>
          <p:nvSpPr>
            <p:cNvPr id="10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8" name="Group 4"/>
            <p:cNvGrpSpPr/>
            <p:nvPr/>
          </p:nvGrpSpPr>
          <p:grpSpPr>
            <a:xfrm>
              <a:off x="1800360" y="2835360"/>
              <a:ext cx="5543280" cy="457200"/>
              <a:chOff x="1800360" y="2835360"/>
              <a:chExt cx="5543280" cy="457200"/>
            </a:xfrm>
          </p:grpSpPr>
          <p:sp>
            <p:nvSpPr>
              <p:cNvPr id="10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1" name="Text Box 7"/>
          <p:cNvSpPr/>
          <p:nvPr/>
        </p:nvSpPr>
        <p:spPr>
          <a:xfrm>
            <a:off x="533520" y="609480"/>
            <a:ext cx="77724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800360" y="2835360"/>
            <a:ext cx="5543280" cy="457200"/>
            <a:chOff x="1800360" y="2835360"/>
            <a:chExt cx="5543280" cy="457200"/>
          </a:xfrm>
        </p:grpSpPr>
        <p:sp>
          <p:nvSpPr>
            <p:cNvPr id="113"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14" name="Group 4"/>
            <p:cNvGrpSpPr/>
            <p:nvPr/>
          </p:nvGrpSpPr>
          <p:grpSpPr>
            <a:xfrm>
              <a:off x="1800360" y="2835360"/>
              <a:ext cx="5543280" cy="457200"/>
              <a:chOff x="1800360" y="2835360"/>
              <a:chExt cx="5543280" cy="457200"/>
            </a:xfrm>
          </p:grpSpPr>
          <p:sp>
            <p:nvSpPr>
              <p:cNvPr id="115"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6"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7" name="Text Box 7"/>
          <p:cNvSpPr/>
          <p:nvPr/>
        </p:nvSpPr>
        <p:spPr>
          <a:xfrm>
            <a:off x="533520" y="228600"/>
            <a:ext cx="777240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re a calming bedtime routine? Is the 3-year-old going to bed easily or is he resisting? Is there a consistent bedtime? Are there disruptive behaviors that the mother is ignoring that occur before the biting occurs?</a:t>
            </a:r>
            <a:endParaRPr b="0" lang="en-US" sz="2400" spc="-1" strike="noStrike">
              <a:solidFill>
                <a:srgbClr val="000000"/>
              </a:solidFill>
              <a:latin typeface="Blackadder ITC"/>
            </a:endParaRPr>
          </a:p>
        </p:txBody>
      </p:sp>
      <p:pic>
        <p:nvPicPr>
          <p:cNvPr id="118" name="Picture 8" descr="C:\Documents and Settings\Owner\My Documents\My Pictures\2006-04 (Apr)\scan.jpg"/>
          <p:cNvPicPr/>
          <p:nvPr/>
        </p:nvPicPr>
        <p:blipFill>
          <a:blip r:embed="rId1"/>
          <a:stretch/>
        </p:blipFill>
        <p:spPr>
          <a:xfrm>
            <a:off x="3505320" y="4419720"/>
            <a:ext cx="1755720" cy="228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1800360" y="2835360"/>
            <a:ext cx="5543280" cy="457200"/>
            <a:chOff x="1800360" y="2835360"/>
            <a:chExt cx="5543280" cy="457200"/>
          </a:xfrm>
        </p:grpSpPr>
        <p:sp>
          <p:nvSpPr>
            <p:cNvPr id="12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1" name="Group 4"/>
            <p:cNvGrpSpPr/>
            <p:nvPr/>
          </p:nvGrpSpPr>
          <p:grpSpPr>
            <a:xfrm>
              <a:off x="1800360" y="2835360"/>
              <a:ext cx="5543280" cy="457200"/>
              <a:chOff x="1800360" y="2835360"/>
              <a:chExt cx="5543280" cy="457200"/>
            </a:xfrm>
          </p:grpSpPr>
          <p:sp>
            <p:nvSpPr>
              <p:cNvPr id="12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24" name="Text Box 7"/>
          <p:cNvSpPr/>
          <p:nvPr/>
        </p:nvSpPr>
        <p:spPr>
          <a:xfrm>
            <a:off x="685800" y="60948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5" name="Text Box 9"/>
          <p:cNvSpPr/>
          <p:nvPr/>
        </p:nvSpPr>
        <p:spPr>
          <a:xfrm>
            <a:off x="1523880" y="609480"/>
            <a:ext cx="57913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year-old boy  eats stage 2 baby food. He also will eat Cheerios, crackers, and hash-browned potatoes, but not bread. He gags on any other food with texture and has a tantrum if he is offered table food. His teeth are late erupting--he's had eight teeth since he was 15 months old--and he didn't begin walking until 15 months. The parents believe that his eating habits have resulted from his lack of teeth.</a:t>
            </a:r>
            <a:endParaRPr b="0" lang="en-US" sz="2400" spc="-1" strike="noStrike">
              <a:solidFill>
                <a:srgbClr val="000000"/>
              </a:solidFill>
              <a:latin typeface="Blackadder ITC"/>
            </a:endParaRPr>
          </a:p>
        </p:txBody>
      </p:sp>
      <p:pic>
        <p:nvPicPr>
          <p:cNvPr id="126" name="Picture 10" descr=""/>
          <p:cNvPicPr/>
          <p:nvPr/>
        </p:nvPicPr>
        <p:blipFill>
          <a:blip r:embed="rId1"/>
          <a:stretch/>
        </p:blipFill>
        <p:spPr>
          <a:xfrm>
            <a:off x="3200400" y="44956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1800360" y="2835360"/>
            <a:ext cx="5543280" cy="457200"/>
            <a:chOff x="1800360" y="2835360"/>
            <a:chExt cx="5543280" cy="457200"/>
          </a:xfrm>
        </p:grpSpPr>
        <p:sp>
          <p:nvSpPr>
            <p:cNvPr id="12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9" name="Group 4"/>
            <p:cNvGrpSpPr/>
            <p:nvPr/>
          </p:nvGrpSpPr>
          <p:grpSpPr>
            <a:xfrm>
              <a:off x="1800360" y="2835360"/>
              <a:ext cx="5543280" cy="457200"/>
              <a:chOff x="1800360" y="2835360"/>
              <a:chExt cx="5543280" cy="457200"/>
            </a:xfrm>
          </p:grpSpPr>
          <p:sp>
            <p:nvSpPr>
              <p:cNvPr id="13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2" name="Text Box 7"/>
          <p:cNvSpPr/>
          <p:nvPr/>
        </p:nvSpPr>
        <p:spPr>
          <a:xfrm>
            <a:off x="533520" y="380880"/>
            <a:ext cx="7924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and neurological status. Can the child chew and swallow normally? If in doubt, consider tests of swallowing function. What sort of textures does the boy find troublesome? The late teething is unimportant; he's not likely to refuse bread because he lacks canines and molar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tritional intake. Is the child's diet satisfactory, or is he being allowed to fill up on foods that he wants, such as milk or fruit juice? If so, parents should limit these liquid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1800360" y="2835360"/>
            <a:ext cx="5543280" cy="457200"/>
            <a:chOff x="1800360" y="2835360"/>
            <a:chExt cx="5543280" cy="457200"/>
          </a:xfrm>
        </p:grpSpPr>
        <p:sp>
          <p:nvSpPr>
            <p:cNvPr id="13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35" name="Group 4"/>
            <p:cNvGrpSpPr/>
            <p:nvPr/>
          </p:nvGrpSpPr>
          <p:grpSpPr>
            <a:xfrm>
              <a:off x="1800360" y="2835360"/>
              <a:ext cx="5543280" cy="457200"/>
              <a:chOff x="1800360" y="2835360"/>
              <a:chExt cx="5543280" cy="457200"/>
            </a:xfrm>
          </p:grpSpPr>
          <p:sp>
            <p:nvSpPr>
              <p:cNvPr id="13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8" name="Text Box 7"/>
          <p:cNvSpPr/>
          <p:nvPr/>
        </p:nvSpPr>
        <p:spPr>
          <a:xfrm>
            <a:off x="609480" y="533520"/>
            <a:ext cx="73152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velopmental level. Walking at 15 months is late, but still in the normal range. Fine motor and speech development would be of much greater interest.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ment. Does the child tend to be slow about accepting anything different, withdrawing at first and then slowly adapting? Is he highly sensitive to subtle differences in taste and other sensation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ional behavior. Has the boy discovered that having tantrums gets him his own way? Oppositional behavior also could arise from being forced by his parents to eat rather than being allowed to assume an amount of self-regulation that is appropriate for his age.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1800360" y="2835360"/>
            <a:ext cx="5543280" cy="457200"/>
            <a:chOff x="1800360" y="2835360"/>
            <a:chExt cx="5543280" cy="457200"/>
          </a:xfrm>
        </p:grpSpPr>
        <p:sp>
          <p:nvSpPr>
            <p:cNvPr id="14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41" name="Group 4"/>
            <p:cNvGrpSpPr/>
            <p:nvPr/>
          </p:nvGrpSpPr>
          <p:grpSpPr>
            <a:xfrm>
              <a:off x="1800360" y="2835360"/>
              <a:ext cx="5543280" cy="457200"/>
              <a:chOff x="1800360" y="2835360"/>
              <a:chExt cx="5543280" cy="457200"/>
            </a:xfrm>
          </p:grpSpPr>
          <p:sp>
            <p:nvSpPr>
              <p:cNvPr id="14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44" name="Text Box 7"/>
          <p:cNvSpPr/>
          <p:nvPr/>
        </p:nvSpPr>
        <p:spPr>
          <a:xfrm>
            <a:off x="609480" y="533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5" name="Text Box 9"/>
          <p:cNvSpPr/>
          <p:nvPr/>
        </p:nvSpPr>
        <p:spPr>
          <a:xfrm>
            <a:off x="609480" y="533520"/>
            <a:ext cx="800100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he boy has no significant problems in any of these areas, offer him table food, but to be relaxed about it and give the problem time to sort itself out.</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hild has an inflexible or sensitive temperament, the situation calls for unusual amounts of parental tact and patience.</a:t>
            </a:r>
            <a:endParaRPr b="0" lang="en-US" sz="2400" spc="-1" strike="noStrike">
              <a:solidFill>
                <a:srgbClr val="000000"/>
              </a:solidFill>
              <a:latin typeface="Blackadder ITC"/>
            </a:endParaRPr>
          </a:p>
        </p:txBody>
      </p:sp>
      <p:pic>
        <p:nvPicPr>
          <p:cNvPr id="146" name="Picture 10" descr=""/>
          <p:cNvPicPr/>
          <p:nvPr/>
        </p:nvPicPr>
        <p:blipFill>
          <a:blip r:embed="rId1"/>
          <a:stretch/>
        </p:blipFill>
        <p:spPr>
          <a:xfrm>
            <a:off x="3276720" y="39625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762120" y="1066680"/>
            <a:ext cx="739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7-year-old girl told me that she is concerned about her daughter's excessive masturbation. Mom reports that ever since the child "discovered herself" at the age of 4, she masturbates often.</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148" name="Picture 4" descr=""/>
          <p:cNvPicPr/>
          <p:nvPr/>
        </p:nvPicPr>
        <p:blipFill>
          <a:blip r:embed="rId1"/>
          <a:stretch/>
        </p:blipFill>
        <p:spPr>
          <a:xfrm>
            <a:off x="3352680" y="3809880"/>
            <a:ext cx="220356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1800360" y="2835360"/>
            <a:ext cx="5543280" cy="457200"/>
            <a:chOff x="1800360" y="2835360"/>
            <a:chExt cx="5543280" cy="457200"/>
          </a:xfrm>
        </p:grpSpPr>
        <p:sp>
          <p:nvSpPr>
            <p:cNvPr id="52" name="Rectangle 2"/>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53" name="Group 5"/>
            <p:cNvGrpSpPr/>
            <p:nvPr/>
          </p:nvGrpSpPr>
          <p:grpSpPr>
            <a:xfrm>
              <a:off x="1800360" y="2835360"/>
              <a:ext cx="5543280" cy="457200"/>
              <a:chOff x="1800360" y="2835360"/>
              <a:chExt cx="5543280" cy="457200"/>
            </a:xfrm>
          </p:grpSpPr>
          <p:sp>
            <p:nvSpPr>
              <p:cNvPr id="5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5" name="Rectangle 4"/>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56" name="Text Box 7"/>
          <p:cNvSpPr/>
          <p:nvPr/>
        </p:nvSpPr>
        <p:spPr>
          <a:xfrm>
            <a:off x="838080" y="914400"/>
            <a:ext cx="74678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9-month-old girl doesn't sleep through the night. I advised the parents to let the baby cry and then go to his room at intervals of five, 10, and 15 minutes to check on him and talk to her. The baby still cried for two hours and 45 minutes …</a:t>
            </a:r>
            <a:endParaRPr b="0" lang="en-US" sz="2400" spc="-1" strike="noStrike">
              <a:solidFill>
                <a:srgbClr val="000000"/>
              </a:solidFill>
              <a:latin typeface="Blackadder ITC"/>
            </a:endParaRPr>
          </a:p>
        </p:txBody>
      </p:sp>
      <p:sp>
        <p:nvSpPr>
          <p:cNvPr id="57"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58" name="Picture 10"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62120" y="10666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0" name="Text Box 5"/>
          <p:cNvSpPr/>
          <p:nvPr/>
        </p:nvSpPr>
        <p:spPr>
          <a:xfrm>
            <a:off x="609480" y="914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1" name="Text Box 7"/>
          <p:cNvSpPr/>
          <p:nvPr/>
        </p:nvSpPr>
        <p:spPr>
          <a:xfrm>
            <a:off x="609480" y="83808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s teacher called Mom to report that she notices the child rubbing against chair legs or rubbing herself with her hands. There have been no new stressors at home or at school, but Mom reports that the child is an "overachiever"; if she is asked to do five problems for school, she will do 20, for example.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762120" y="1066680"/>
            <a:ext cx="7391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irls begin to masturbate about the age of 4, although some start earlier. This kind of touching feels good, and they are unaware of the effect their masturbation has on other peopl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helpful for the parents to tell their daughter that she should touch herself this way only when she is alon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causes isolated masturbation only rarely, but it would be worthwhile to rule it out by quietly talking to the child to make sure that no one has touched her genitalia.</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Text Box 2"/>
          <p:cNvSpPr/>
          <p:nvPr/>
        </p:nvSpPr>
        <p:spPr>
          <a:xfrm>
            <a:off x="1295280" y="762120"/>
            <a:ext cx="5791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ents of a 5-year-old boy are concerned about his sleepwalking. The child has been found in the car at midnight. He does most of his sleepwalking between 10 p.m. and midnight. Waking him up at 10 p.m. to break the cycle and giving him Benadryl at bedtime has not worked. Any suggestions?</a:t>
            </a:r>
            <a:endParaRPr b="0" lang="en-US" sz="2400" spc="-1" strike="noStrike">
              <a:solidFill>
                <a:srgbClr val="000000"/>
              </a:solidFill>
              <a:latin typeface="Blackadder ITC"/>
            </a:endParaRPr>
          </a:p>
        </p:txBody>
      </p:sp>
      <p:pic>
        <p:nvPicPr>
          <p:cNvPr id="154" name="Picture 3" descr=""/>
          <p:cNvPicPr/>
          <p:nvPr/>
        </p:nvPicPr>
        <p:blipFill>
          <a:blip r:embed="rId1"/>
          <a:stretch/>
        </p:blipFill>
        <p:spPr>
          <a:xfrm>
            <a:off x="2743200" y="4038480"/>
            <a:ext cx="2733840" cy="19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Text Box 3"/>
          <p:cNvSpPr/>
          <p:nvPr/>
        </p:nvSpPr>
        <p:spPr>
          <a:xfrm>
            <a:off x="1295280" y="838080"/>
            <a:ext cx="67820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may open doors, traverse hallways, go down stairs and—rarely—go outside. Through it all, his eyes are open and his expression is dazed. Some sleepwalkers appear upset or agitated rather than calm. The child remembers nothing about his nocturnal activity in the morning.</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6" name="Text Box 2"/>
          <p:cNvSpPr/>
          <p:nvPr/>
        </p:nvSpPr>
        <p:spPr>
          <a:xfrm>
            <a:off x="1295280" y="380880"/>
            <a:ext cx="5791320" cy="432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eepwalking is not harmful unless the child falls down stairs, etc. Physical harm is unusual.</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oid late bedtimes and stresses that may be associated with sleepwalking.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king the child at a scheduled time before he usually begins sleepwalking is effective in some but not all childre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nazepam (0.25 to 0.5 mg) before bedtime suppresses sleepwalking</a:t>
            </a:r>
            <a:endParaRPr b="0" lang="en-US" sz="2400" spc="-1" strike="noStrike">
              <a:solidFill>
                <a:srgbClr val="000000"/>
              </a:solidFill>
              <a:latin typeface="Blackadder ITC"/>
            </a:endParaRPr>
          </a:p>
        </p:txBody>
      </p:sp>
      <p:pic>
        <p:nvPicPr>
          <p:cNvPr id="157" name="Picture 3" descr=""/>
          <p:cNvPicPr/>
          <p:nvPr/>
        </p:nvPicPr>
        <p:blipFill>
          <a:blip r:embed="rId1"/>
          <a:stretch/>
        </p:blipFill>
        <p:spPr>
          <a:xfrm>
            <a:off x="2971800" y="5029200"/>
            <a:ext cx="2286000" cy="161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58" name="Picture 4" descr="C:\Documents and Settings\Owner\My Documents\My Pictures\Feb04\Leoras Mar[1]. 04 019e.jpg"/>
          <p:cNvPicPr/>
          <p:nvPr/>
        </p:nvPicPr>
        <p:blipFill>
          <a:blip r:embed="rId1"/>
          <a:stretch/>
        </p:blipFill>
        <p:spPr>
          <a:xfrm>
            <a:off x="3276720" y="2666880"/>
            <a:ext cx="2293920" cy="3892680"/>
          </a:xfrm>
          <a:prstGeom prst="rect">
            <a:avLst/>
          </a:prstGeom>
          <a:ln w="0">
            <a:noFill/>
          </a:ln>
        </p:spPr>
      </p:pic>
      <p:sp>
        <p:nvSpPr>
          <p:cNvPr id="159" name="Text Box 5"/>
          <p:cNvSpPr/>
          <p:nvPr/>
        </p:nvSpPr>
        <p:spPr>
          <a:xfrm>
            <a:off x="1447920" y="304920"/>
            <a:ext cx="6172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ther of a 3-year-old girl is concerned that her daughter steals the toys of other children. According to her mother, the child has plenty of her own toys at home. She does not have any siblings. The girl is healthy and her development is normal for her ag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ling" implies that the perpetrator takes what belongs to another even though she understands personal property rights, knows her behavior will cause someone else loss or distress, and has enough self-regulatory controls not to go after everything she desires. The thief also understands that society prohibits following natural egocentric inclination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3-year-old meets none of these developmental criteria,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age 4 children begins to appreciate the beauty of rule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s can, however, teach her that taking other children's things is not acceptable behavior.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s are very pragmatic creatures and can quickly learn that a behavior is not in their best interest, even if it's not clear why it's bad.</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Text Box 2"/>
          <p:cNvSpPr/>
          <p:nvPr/>
        </p:nvSpPr>
        <p:spPr>
          <a:xfrm>
            <a:off x="990720" y="304920"/>
            <a:ext cx="670536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her being good ("It's so nice the way you're sharing the toys"),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her time out for egregious stealing episodes (particularly when they occur right after she has been warned not to take things),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her see the natural consequences of her act (return the pilfered item to its owner and ensure that the victim, not the thief, receives a lot of attention)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isinterpret the child's behavior, opening the door to unwarranted disparagement of their perfectly normal daughter.</a:t>
            </a:r>
            <a:endParaRPr b="0" lang="en-US" sz="2400" spc="-1" strike="noStrike">
              <a:solidFill>
                <a:srgbClr val="000000"/>
              </a:solidFill>
              <a:latin typeface="Blackadder IT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63" name="Group 2"/>
          <p:cNvGrpSpPr/>
          <p:nvPr/>
        </p:nvGrpSpPr>
        <p:grpSpPr>
          <a:xfrm>
            <a:off x="1800360" y="2835360"/>
            <a:ext cx="5543280" cy="457200"/>
            <a:chOff x="1800360" y="2835360"/>
            <a:chExt cx="5543280" cy="457200"/>
          </a:xfrm>
        </p:grpSpPr>
        <p:sp>
          <p:nvSpPr>
            <p:cNvPr id="16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65" name="Group 4"/>
            <p:cNvGrpSpPr/>
            <p:nvPr/>
          </p:nvGrpSpPr>
          <p:grpSpPr>
            <a:xfrm>
              <a:off x="1800360" y="2835360"/>
              <a:ext cx="5543280" cy="457200"/>
              <a:chOff x="1800360" y="2835360"/>
              <a:chExt cx="5543280" cy="457200"/>
            </a:xfrm>
          </p:grpSpPr>
          <p:sp>
            <p:nvSpPr>
              <p:cNvPr id="16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6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68" name="Text Box 7"/>
          <p:cNvSpPr/>
          <p:nvPr/>
        </p:nvSpPr>
        <p:spPr>
          <a:xfrm>
            <a:off x="60948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4-year-old patient has been toilet trained for a year except that she refuses to use the toilet anywhere but home. She has gone as long as 15 hours without voiding; she complains of stomach pains when she holds urine for a long time but still waits until she gets home to void!</a:t>
            </a:r>
            <a:endParaRPr b="0" lang="en-US" sz="2400" spc="-1" strike="noStrike">
              <a:solidFill>
                <a:srgbClr val="000000"/>
              </a:solidFill>
              <a:latin typeface="Blackadder ITC"/>
            </a:endParaRPr>
          </a:p>
        </p:txBody>
      </p:sp>
      <p:pic>
        <p:nvPicPr>
          <p:cNvPr id="169" name="Picture 8" descr=""/>
          <p:cNvPicPr/>
          <p:nvPr/>
        </p:nvPicPr>
        <p:blipFill>
          <a:blip r:embed="rId1"/>
          <a:stretch/>
        </p:blipFill>
        <p:spPr>
          <a:xfrm>
            <a:off x="3200400" y="312408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800360" y="2835360"/>
            <a:ext cx="5543280" cy="457200"/>
            <a:chOff x="1800360" y="2835360"/>
            <a:chExt cx="5543280" cy="457200"/>
          </a:xfrm>
        </p:grpSpPr>
        <p:sp>
          <p:nvSpPr>
            <p:cNvPr id="6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1" name="Group 4"/>
            <p:cNvGrpSpPr/>
            <p:nvPr/>
          </p:nvGrpSpPr>
          <p:grpSpPr>
            <a:xfrm>
              <a:off x="1800360" y="2835360"/>
              <a:ext cx="5543280" cy="457200"/>
              <a:chOff x="1800360" y="2835360"/>
              <a:chExt cx="5543280" cy="457200"/>
            </a:xfrm>
          </p:grpSpPr>
          <p:sp>
            <p:nvSpPr>
              <p:cNvPr id="6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64" name="Text Box 7"/>
          <p:cNvSpPr/>
          <p:nvPr/>
        </p:nvSpPr>
        <p:spPr>
          <a:xfrm>
            <a:off x="1219320" y="914400"/>
            <a:ext cx="6781680" cy="4275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Clarify and normalize what is going on.</a:t>
            </a:r>
            <a:r>
              <a:rPr b="1" i="1" lang="en-US" sz="1800" spc="-1" strike="noStrike">
                <a:solidFill>
                  <a:srgbClr val="000000"/>
                </a:solidFill>
                <a:latin typeface="Times New Roman"/>
                <a:ea typeface="Times New Roman"/>
              </a:rPr>
              <a:t> </a:t>
            </a:r>
            <a:endParaRPr b="0" lang="en-US" sz="1800" spc="-1" strike="noStrike">
              <a:solidFill>
                <a:srgbClr val="000000"/>
              </a:solidFill>
              <a:latin typeface="Blackadder ITC"/>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 are “sleep –onset associations”?</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baby doesn’t agree with the plan.</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emperament (intense and persistent?)</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s the developmental stage (stranger anxiety?)</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0" name="Group 2"/>
          <p:cNvGrpSpPr/>
          <p:nvPr/>
        </p:nvGrpSpPr>
        <p:grpSpPr>
          <a:xfrm>
            <a:off x="1800360" y="2835360"/>
            <a:ext cx="5543280" cy="457200"/>
            <a:chOff x="1800360" y="2835360"/>
            <a:chExt cx="5543280" cy="457200"/>
          </a:xfrm>
        </p:grpSpPr>
        <p:sp>
          <p:nvSpPr>
            <p:cNvPr id="17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2" name="Group 4"/>
            <p:cNvGrpSpPr/>
            <p:nvPr/>
          </p:nvGrpSpPr>
          <p:grpSpPr>
            <a:xfrm>
              <a:off x="1800360" y="2835360"/>
              <a:ext cx="5543280" cy="457200"/>
              <a:chOff x="1800360" y="2835360"/>
              <a:chExt cx="5543280" cy="457200"/>
            </a:xfrm>
          </p:grpSpPr>
          <p:sp>
            <p:nvSpPr>
              <p:cNvPr id="17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7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75" name="Text Box 7"/>
          <p:cNvSpPr/>
          <p:nvPr/>
        </p:nvSpPr>
        <p:spPr>
          <a:xfrm>
            <a:off x="685800" y="685800"/>
            <a:ext cx="716292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hief complaint is consistent with a phobia but a mild one, as the child's avoidance of the toilet interferes in only a small way with her daily activities.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ke a fear, a phobia does not respond to reassurance or distraction, so the most important thing for the mother to do is respect the child's avoidance of toilets outside the hous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6" name="Group 2"/>
          <p:cNvGrpSpPr/>
          <p:nvPr/>
        </p:nvGrpSpPr>
        <p:grpSpPr>
          <a:xfrm>
            <a:off x="1800360" y="2835360"/>
            <a:ext cx="5543280" cy="457200"/>
            <a:chOff x="1800360" y="2835360"/>
            <a:chExt cx="5543280" cy="457200"/>
          </a:xfrm>
        </p:grpSpPr>
        <p:sp>
          <p:nvSpPr>
            <p:cNvPr id="17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8" name="Group 4"/>
            <p:cNvGrpSpPr/>
            <p:nvPr/>
          </p:nvGrpSpPr>
          <p:grpSpPr>
            <a:xfrm>
              <a:off x="1800360" y="2835360"/>
              <a:ext cx="5543280" cy="457200"/>
              <a:chOff x="1800360" y="2835360"/>
              <a:chExt cx="5543280" cy="457200"/>
            </a:xfrm>
          </p:grpSpPr>
          <p:sp>
            <p:nvSpPr>
              <p:cNvPr id="17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8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81" name="Text Box 7"/>
          <p:cNvSpPr/>
          <p:nvPr/>
        </p:nvSpPr>
        <p:spPr>
          <a:xfrm>
            <a:off x="838080" y="609480"/>
            <a:ext cx="70106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rents never think to model using the toilet at friends' homes and in public places. Encourage the parents to use public toilets almost every time they are away from home, including at grocery stores, shopping malls, and pizza places. Modeling is often the most powerful tool that we have. No need for the parents to lecture—just use the toilet!</a:t>
            </a:r>
            <a:endParaRPr b="0" lang="en-US" sz="2400" spc="-1" strike="noStrike">
              <a:solidFill>
                <a:srgbClr val="000000"/>
              </a:solidFill>
              <a:latin typeface="Blackadder ITC"/>
            </a:endParaRPr>
          </a:p>
        </p:txBody>
      </p:sp>
      <p:pic>
        <p:nvPicPr>
          <p:cNvPr id="182" name="Picture 8" descr=""/>
          <p:cNvPicPr/>
          <p:nvPr/>
        </p:nvPicPr>
        <p:blipFill>
          <a:blip r:embed="rId1"/>
          <a:stretch/>
        </p:blipFill>
        <p:spPr>
          <a:xfrm>
            <a:off x="3200400" y="365760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3" name="Text Box 2"/>
          <p:cNvSpPr/>
          <p:nvPr/>
        </p:nvSpPr>
        <p:spPr>
          <a:xfrm>
            <a:off x="685800" y="609480"/>
            <a:ext cx="76960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ast few months, a 2-year-old  has been smearing stool on herself and her crib almost every time she has a bowel movement. The child will sometimes even unbutton her clothes and remove her diaper to get at the stool. Mom usually ends up having to give her a bath, which is an enjoyable experience for the girl. This child has never demonstrated any unusual behavior before. She has mild speech delay (she uses only a handful of words) but has very good nonverbal communication</a:t>
            </a:r>
            <a:endParaRPr b="0" lang="en-US" sz="2400" spc="-1" strike="noStrike">
              <a:solidFill>
                <a:srgbClr val="000000"/>
              </a:solidFill>
              <a:latin typeface="Blackadder ITC"/>
            </a:endParaRPr>
          </a:p>
        </p:txBody>
      </p:sp>
      <p:pic>
        <p:nvPicPr>
          <p:cNvPr id="184" name="Picture 4" descr=""/>
          <p:cNvPicPr/>
          <p:nvPr/>
        </p:nvPicPr>
        <p:blipFill>
          <a:blip r:embed="rId1"/>
          <a:stretch/>
        </p:blipFill>
        <p:spPr>
          <a:xfrm>
            <a:off x="3124080" y="426708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5" name="Text Box 2"/>
          <p:cNvSpPr/>
          <p:nvPr/>
        </p:nvSpPr>
        <p:spPr>
          <a:xfrm>
            <a:off x="762120" y="8380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fewer than 25 words at 2 years of age is a major red flag for developmental disability. Studies show that, even in cases in which early language delays have improved, 42% of children are later found to have reading or cognitive deficits.</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Text Box 2"/>
          <p:cNvSpPr/>
          <p:nvPr/>
        </p:nvSpPr>
        <p:spPr>
          <a:xfrm>
            <a:off x="685800" y="914400"/>
            <a:ext cx="723888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is child is impaired cognitively. I recommend that arrangements be made to perform diagnostic developmental assessment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meantime, it may be helpful to reward the girl when she does not smear her stool.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might be interested in playing with modeling clay or doing finger painting as a substitute for whatever tactile pleasure she gets from smearing stool.</a:t>
            </a:r>
            <a:endParaRPr b="0" lang="en-US" sz="2400" spc="-1" strike="noStrike">
              <a:solidFill>
                <a:srgbClr val="000000"/>
              </a:solidFill>
              <a:latin typeface="Blackadder ITC"/>
            </a:endParaRPr>
          </a:p>
        </p:txBody>
      </p:sp>
      <p:pic>
        <p:nvPicPr>
          <p:cNvPr id="187" name="Picture 3" descr=""/>
          <p:cNvPicPr/>
          <p:nvPr/>
        </p:nvPicPr>
        <p:blipFill>
          <a:blip r:embed="rId1"/>
          <a:stretch/>
        </p:blipFill>
        <p:spPr>
          <a:xfrm>
            <a:off x="2895480" y="4419720"/>
            <a:ext cx="2751120" cy="206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609480"/>
            <a:ext cx="76197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ecently saw a 10-year-old girl at an initial consultation for trichotillomania. Her habit apparently started six months ago. She was seen by a psychologist shortly after it began and was treated with behavioral modification therapy, but showed little improvement.</a:t>
            </a:r>
            <a:endParaRPr b="0" lang="en-US" sz="2400" spc="-1" strike="noStrike">
              <a:solidFill>
                <a:srgbClr val="000000"/>
              </a:solidFill>
              <a:latin typeface="Blackadder ITC"/>
            </a:endParaRPr>
          </a:p>
        </p:txBody>
      </p:sp>
      <p:pic>
        <p:nvPicPr>
          <p:cNvPr id="189" name="Picture 4" descr=""/>
          <p:cNvPicPr/>
          <p:nvPr/>
        </p:nvPicPr>
        <p:blipFill>
          <a:blip r:embed="rId1"/>
          <a:stretch/>
        </p:blipFill>
        <p:spPr>
          <a:xfrm>
            <a:off x="3200400" y="32767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3520" y="838080"/>
            <a:ext cx="7772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chotillomania is an underreported condition, and it is a difficult problem to tre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child troubled by her hair los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econdary gain for her? Increased attentio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w motivated is she to master this habit?</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609480"/>
            <a:ext cx="7848720" cy="378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therapies include: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gnitive behavioral habit reversal therap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cation (clomipramine), and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nosi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small studies have compared cognitive therapy with medication. One study showed that behavioral interventions and hypnosis were more acceptable to patients than medication.</a:t>
            </a:r>
            <a:endParaRPr b="0" lang="en-US" sz="2400" spc="-1" strike="noStrike">
              <a:solidFill>
                <a:srgbClr val="000000"/>
              </a:solidFill>
              <a:latin typeface="Blackadder ITC"/>
            </a:endParaRPr>
          </a:p>
        </p:txBody>
      </p:sp>
      <p:pic>
        <p:nvPicPr>
          <p:cNvPr id="192" name="Picture 3" descr=""/>
          <p:cNvPicPr/>
          <p:nvPr/>
        </p:nvPicPr>
        <p:blipFill>
          <a:blip r:embed="rId1"/>
          <a:stretch/>
        </p:blipFill>
        <p:spPr>
          <a:xfrm>
            <a:off x="3657600" y="4419720"/>
            <a:ext cx="1644480" cy="2192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Owner\My Documents\My Pictures\02 cherry blossoms.jpg"/>
          <p:cNvPicPr/>
          <p:nvPr/>
        </p:nvPicPr>
        <p:blipFill>
          <a:blip r:embed="rId1"/>
          <a:stretch/>
        </p:blipFill>
        <p:spPr>
          <a:xfrm>
            <a:off x="0" y="0"/>
            <a:ext cx="9918720" cy="7440480"/>
          </a:xfrm>
          <a:prstGeom prst="rect">
            <a:avLst/>
          </a:prstGeom>
          <a:ln w="0">
            <a:noFill/>
          </a:ln>
        </p:spPr>
      </p:pic>
      <p:pic>
        <p:nvPicPr>
          <p:cNvPr id="194" name="Picture 3" descr=""/>
          <p:cNvPicPr/>
          <p:nvPr/>
        </p:nvPicPr>
        <p:blipFill>
          <a:blip r:embed="rId2"/>
          <a:stretch/>
        </p:blipFill>
        <p:spPr>
          <a:xfrm>
            <a:off x="2209680" y="2057400"/>
            <a:ext cx="571356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800360" y="2835360"/>
            <a:ext cx="5543280" cy="457200"/>
            <a:chOff x="1800360" y="2835360"/>
            <a:chExt cx="5543280" cy="457200"/>
          </a:xfrm>
        </p:grpSpPr>
        <p:sp>
          <p:nvSpPr>
            <p:cNvPr id="66"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7" name="Group 4"/>
            <p:cNvGrpSpPr/>
            <p:nvPr/>
          </p:nvGrpSpPr>
          <p:grpSpPr>
            <a:xfrm>
              <a:off x="1800360" y="2835360"/>
              <a:ext cx="5543280" cy="457200"/>
              <a:chOff x="1800360" y="2835360"/>
              <a:chExt cx="5543280" cy="457200"/>
            </a:xfrm>
          </p:grpSpPr>
          <p:sp>
            <p:nvSpPr>
              <p:cNvPr id="68"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9"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0" name="Text Box 7"/>
          <p:cNvSpPr/>
          <p:nvPr/>
        </p:nvSpPr>
        <p:spPr>
          <a:xfrm>
            <a:off x="1295280" y="1371600"/>
            <a:ext cx="6477120" cy="32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2. Explore the parents' feelings and goal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ow important it is to them to achieve independent sleep?</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o what lengths they are willing to go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
          <p:cNvGrpSpPr/>
          <p:nvPr/>
        </p:nvGrpSpPr>
        <p:grpSpPr>
          <a:xfrm>
            <a:off x="1800360" y="2835360"/>
            <a:ext cx="5543280" cy="457200"/>
            <a:chOff x="1800360" y="2835360"/>
            <a:chExt cx="5543280" cy="457200"/>
          </a:xfrm>
        </p:grpSpPr>
        <p:sp>
          <p:nvSpPr>
            <p:cNvPr id="72"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3" name="Group 4"/>
            <p:cNvGrpSpPr/>
            <p:nvPr/>
          </p:nvGrpSpPr>
          <p:grpSpPr>
            <a:xfrm>
              <a:off x="1800360" y="2835360"/>
              <a:ext cx="5543280" cy="457200"/>
              <a:chOff x="1800360" y="2835360"/>
              <a:chExt cx="5543280" cy="457200"/>
            </a:xfrm>
          </p:grpSpPr>
          <p:sp>
            <p:nvSpPr>
              <p:cNvPr id="74"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75"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6" name="Text Box 7"/>
          <p:cNvSpPr/>
          <p:nvPr/>
        </p:nvSpPr>
        <p:spPr>
          <a:xfrm>
            <a:off x="914400" y="380880"/>
            <a:ext cx="7315200" cy="569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3. Present the parents with strategic option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gradual" method (which they have been trying)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cold turkey" method (which works but is unacceptable to many parents)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postponement of sleep training until a more propitious time.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1800360" y="2835360"/>
            <a:ext cx="5543280" cy="457200"/>
            <a:chOff x="1800360" y="2835360"/>
            <a:chExt cx="5543280" cy="457200"/>
          </a:xfrm>
        </p:grpSpPr>
        <p:sp>
          <p:nvSpPr>
            <p:cNvPr id="7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9" name="Group 4"/>
            <p:cNvGrpSpPr/>
            <p:nvPr/>
          </p:nvGrpSpPr>
          <p:grpSpPr>
            <a:xfrm>
              <a:off x="1800360" y="2835360"/>
              <a:ext cx="5543280" cy="457200"/>
              <a:chOff x="1800360" y="2835360"/>
              <a:chExt cx="5543280" cy="457200"/>
            </a:xfrm>
          </p:grpSpPr>
          <p:sp>
            <p:nvSpPr>
              <p:cNvPr id="8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8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82" name="Text Box 7"/>
          <p:cNvSpPr/>
          <p:nvPr/>
        </p:nvSpPr>
        <p:spPr>
          <a:xfrm>
            <a:off x="838080" y="914400"/>
            <a:ext cx="746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4. Ensure timely follow-up. </a:t>
            </a:r>
            <a:endParaRPr b="0" lang="en-US" sz="2400" spc="-1" strike="noStrike">
              <a:solidFill>
                <a:srgbClr val="000000"/>
              </a:solidFill>
              <a:latin typeface="Blackadder ITC"/>
            </a:endParaRPr>
          </a:p>
        </p:txBody>
      </p:sp>
      <p:sp>
        <p:nvSpPr>
          <p:cNvPr id="83"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4" name="Picture 9"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Text Box 2"/>
          <p:cNvSpPr/>
          <p:nvPr/>
        </p:nvSpPr>
        <p:spPr>
          <a:xfrm>
            <a:off x="1371600" y="304920"/>
            <a:ext cx="5867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2-year-old girl in my practice calls her mother "bitch." The mother, who is going through a divorce, is embarrassed when her daughter does this in public—at the mall, for example. Mom believes that the girl's father and his parents have taught the child this name</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nurses at the hospital where I admitted the child for pneumonia reported that the girl interacts well with her mother</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
        <p:nvSpPr>
          <p:cNvPr id="86"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7" name="Picture 5" descr="Go to fullsize image"/>
          <p:cNvPicPr/>
          <p:nvPr/>
        </p:nvPicPr>
        <p:blipFill>
          <a:blip r:embed="rId1"/>
          <a:stretch/>
        </p:blipFill>
        <p:spPr>
          <a:xfrm>
            <a:off x="3429000" y="4038480"/>
            <a:ext cx="1644480" cy="24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8" name="Text Box 2"/>
          <p:cNvSpPr/>
          <p:nvPr/>
        </p:nvSpPr>
        <p:spPr>
          <a:xfrm>
            <a:off x="914400" y="2286000"/>
            <a:ext cx="74674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k Mom to ignore the girl's behavior so as not to reinforce i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y time-out (no success)</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sult her husband on this matter (he is uncooperative</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9" name="Text Box 2"/>
          <p:cNvSpPr/>
          <p:nvPr/>
        </p:nvSpPr>
        <p:spPr>
          <a:xfrm>
            <a:off x="914400" y="914400"/>
            <a:ext cx="6934320" cy="48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ther may have given up too quickly on ignoring the behavior.</a:t>
            </a:r>
            <a:r>
              <a:rPr b="0" lang="en-US" sz="2400" spc="-1" strike="noStrike">
                <a:solidFill>
                  <a:srgbClr val="000000"/>
                </a:solidFill>
                <a:latin typeface="Times New Roman"/>
              </a:rPr>
              <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ing inconsistent in ignoring the behavio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termittent reinforcement is an extremely effective way to ensure that the behavior does not go awa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m may not have an alternate plan for dealing with this behavior in public, when it is extremely difficult to ignore. For example, in going to the mall, I suggest keeping trips shor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9:22:51Z</dcterms:created>
  <dc:creator>HCMARTINEZ</dc:creator>
  <dc:description/>
  <dc:language>en-US</dc:language>
  <cp:lastModifiedBy>HCMARTINEZ</cp:lastModifiedBy>
  <dcterms:modified xsi:type="dcterms:W3CDTF">2009-04-08T19:12:03Z</dcterms:modified>
  <cp:revision>25</cp:revision>
  <dc:subject/>
  <dc:title>PowerPoint Presentation</dc:title>
</cp:coreProperties>
</file>